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0275-485F-4212-9EA9-D1C53293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7469-5279-4A08-AA4D-6084B9EA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9462-8F73-45E4-94CC-7856D126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1020-50DA-434B-80CB-CB8C0E57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23D0-CBA9-46D5-B475-530F6F02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34CB-872B-4B8A-B368-9A5FFC63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82EF-58BC-4F6B-8732-86BBD9BF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2335-CD65-4248-957B-3527998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ADDF-3B92-4D16-90BD-626AAE48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2927-D130-47A2-BE14-5169BF90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976C-C5AE-4552-B2D3-92922FA1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2113-52DE-4C73-A221-6FF5A110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B166-41F6-468B-B8B3-6E4844C33A5E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EDCI 6158:  SUMMER 2016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Class #3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Ethos, pathos, logos, extreme language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Peer Review: Trends/Issues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e8d8c"/>
                </a:solidFill>
                <a:latin typeface="Calibri"/>
              </a:rPr>
              <a:t>Crossover</a:t>
            </a:r>
            <a:r>
              <a:rPr b="0" lang="en-US" sz="1600" spc="-1" strike="noStrike">
                <a:solidFill>
                  <a:srgbClr val="8e8d8c"/>
                </a:solidFill>
                <a:latin typeface="Calibri"/>
              </a:rPr>
              <a:t> Lit Circle #1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oking closely at word choice…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Everyon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would agree that this issue is pertinen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issue is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indisputably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one of the most pressing concerns teachers fac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data reveals th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wors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test scores in over a decad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has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nev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en a more important time to focus on this issue than now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eachers ar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completely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overwhelmed with th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he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number of failing studen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xtreme or absolute languag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1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treme or Absolute Language makes an exaggerated, overblown, and probably untrue claim. It admits of no exceptions, and it seems to forbid doubt or questions” (Beers &amp; Probst, 2016, p. 136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20280" indent="-2214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reme language: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Never, none, totally, unquestionably, completely, unconditionally, absolutely, entirely, exclusively, all, everyone, no one, every single, no doubt, undisputable, always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0280" indent="-2214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reme language: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risis, epidemic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0280" indent="-2214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ore subtle uses of extreme language: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er, mere, only… (mere 40%, only 1/3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0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Calibri"/>
              </a:rPr>
              <a:t>Discuss in your groups: How does extreme language impact readers? What are the benefits to using such language? What are the downside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21800" y="5486400"/>
            <a:ext cx="76597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EXTREME LANGUAGE: AN EXAMPLE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2160" y="3852720"/>
            <a:ext cx="613584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xtreme language and our profess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cuss in your table group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surprised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you in this video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did ideas/information in this video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 challenge, change, or confirm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you already believed about the “role” of a teacher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does the “extreme language” used to describe the role of the teacher in this video impact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your personal view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f our profession? What about the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general public’s view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f our profession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xtreme or absolute languag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treme or Absolute Language makes an exaggerated, overblown, and probably untrue claim. It admits of no exceptions, and it seems to forbid doubt or questions” (Beers &amp; Probst, 2016, p. 136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reme language: Is it true? Is it needed?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Never, none, totally, unquestionably, completely, unconditionally, absolutely, entirely, exclusively, all, everyone, no one, every single, no doubt, undisputable, always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reme language: Is it true? Is it exaggerated?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Crisis, epidemic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ore subtle uses of extreme language: Is it needed?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er, mere, only… (mere 40%, only 1/3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ff"/>
                </a:solidFill>
                <a:latin typeface="Calibri"/>
              </a:rPr>
              <a:t>Look through your draft. Circle extreme language us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572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iterature Circle Group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762120"/>
            <a:ext cx="3657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eam Alley-OOP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mand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yss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ri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rand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eam Kaboom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Natali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eliss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the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rac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eam ALL ne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utum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ark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h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eam Dunkalicious Class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Jo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hle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Kelly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icha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eam Supersonic Sass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aur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lai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l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Marcu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iterature Circl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end the next 20 minutes discussing your role sheets with your literature circle group member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ke sure that each person has a chance to share from his/her role shee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flection: Spend the next 3-4 minutes writing in response to one of these promp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, from my literature circle discussion, surprised m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hat is something new (about the text, about myself)  I learned during today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 discussio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HOMEWORK: 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6172200" cy="37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Revise </a:t>
            </a:r>
            <a:r>
              <a:rPr b="0" lang="ja-JP" sz="1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overview</a:t>
            </a:r>
            <a:r>
              <a:rPr b="0" lang="ja-JP" sz="14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 and </a:t>
            </a:r>
            <a:r>
              <a:rPr b="0" lang="ja-JP" sz="1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trend or issue</a:t>
            </a:r>
            <a:r>
              <a:rPr b="0" lang="ja-JP" sz="14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 drafts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e8d8c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Think about ethos/pathos/logos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Consider extreme language.  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Email Erinn your draft by Friday (5/27). (You’re welcome to do so sooner)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d5225"/>
                </a:solidFill>
                <a:latin typeface="Calibri"/>
              </a:rPr>
              <a:t>Complete literature role sheet and reading for Thursday</a:t>
            </a:r>
            <a:r>
              <a:rPr b="0" lang="en-US" sz="1400" spc="-1" strike="noStrike">
                <a:solidFill>
                  <a:srgbClr val="8e8d8c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Literary luminary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Archeologist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Discussion Director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Connector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Illustrator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5e47"/>
                </a:solidFill>
                <a:latin typeface="Calibri"/>
              </a:rPr>
              <a:t>Poet (Create a poem in response to the reading)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e8d8c"/>
                </a:solidFill>
                <a:latin typeface="Calibri"/>
              </a:rPr>
              <a:t>On Thursday, we will begin our class meeting in Jordan 140A and move to computer lab. (We will begin working on our wiki!)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ilent Debat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ir up with another pers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erson who is taller = 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 lover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erson who is shorter = 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og lover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gage in a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ilent debat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:  Write down why your animal makes the better pet within the time limit.  Read your partner</a:t>
            </a:r>
            <a:r>
              <a:rPr b="0" lang="ja-JP" sz="2200" spc="-1" strike="noStrike">
                <a:solidFill>
                  <a:srgbClr val="2f2b2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 argument and reply to his/her argumen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You may use facts, personal experience, examples, and/or common knowledge to support  your claims.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e-Brief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at were some ways in which you supported your argument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sonal experience or expertise with the topic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motional appe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Etho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Patho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go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C:\Users\Erinn\AppData\Local\Microsoft\Windows\Temporary Internet Files\Content.IE5\LE0O2IRL\MC900434389[1].wmf"/>
          <p:cNvPicPr/>
          <p:nvPr/>
        </p:nvPicPr>
        <p:blipFill>
          <a:blip r:embed="rId1"/>
          <a:stretch/>
        </p:blipFill>
        <p:spPr>
          <a:xfrm>
            <a:off x="6172200" y="3124080"/>
            <a:ext cx="12063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go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gos = the logical appeal (reason and rationality). It is normally used to describe the facts and figures that support the speaker</a:t>
            </a:r>
            <a:r>
              <a:rPr b="0" lang="ja-JP" sz="2800" spc="-1" strike="noStrike">
                <a:solidFill>
                  <a:srgbClr val="2f2b2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 topic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2" descr="C:\Users\Erinn\AppData\Local\Microsoft\Windows\Temporary Internet Files\Content.IE5\YCAQROUU\MC900431584[1].png"/>
          <p:cNvPicPr/>
          <p:nvPr/>
        </p:nvPicPr>
        <p:blipFill>
          <a:blip r:embed="rId1"/>
          <a:stretch/>
        </p:blipFill>
        <p:spPr>
          <a:xfrm>
            <a:off x="5334120" y="2917800"/>
            <a:ext cx="1828800" cy="182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648320" y="1219320"/>
            <a:ext cx="32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Where, in my drafts, have I used Logos?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Where should I use Logos?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atho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athos = an appeal to the audience</a:t>
            </a:r>
            <a:r>
              <a:rPr b="0" lang="ja-JP" sz="2000" spc="-1" strike="noStrike">
                <a:solidFill>
                  <a:srgbClr val="2f2b20"/>
                </a:solidFill>
                <a:latin typeface="Calibri"/>
              </a:rPr>
              <a:t>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 emotions. It can be in the form of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f2b20"/>
                </a:solidFill>
                <a:latin typeface="Calibri"/>
              </a:rPr>
              <a:t>Metaphor or simile,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f2b20"/>
                </a:solidFill>
                <a:latin typeface="Calibri"/>
              </a:rPr>
              <a:t>A passionate delivery,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f2b20"/>
                </a:solidFill>
                <a:latin typeface="Calibri"/>
              </a:rPr>
              <a:t>Or a simple claim that a matter is unjust.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athos is most effective when the author connects with an underlying value of the reader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70320" y="342900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Where, in my drafts, do I use Pathos?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re there places I could (or should) use Pathos?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18795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tho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Ethos = an appeal to the authority or honesty of the speaker. It is how well the speaker convinces the audience that he or she is qualified to speak on the particular subject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70320" y="419076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ere, in my drafts, do I use Ethos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Where could (or should) I use Ethos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1"/>
          <a:srcRect l="954" t="3608" r="-927" b="-3588"/>
          <a:stretch/>
        </p:blipFill>
        <p:spPr>
          <a:xfrm>
            <a:off x="4800600" y="685800"/>
            <a:ext cx="1359000" cy="181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58256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rafting and revising note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member:  Ethos is the experience and expertise you bring to your topic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You need not use all 3 rhetorical strategies in your wiki projec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You should have a balance in your overall approach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eer revie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can your peers help you? Think of 2-3 questions to ask the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is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ntent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of my piece? Do I need more information? Wher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is my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ton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? Do I sound biased? Where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is my 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? Do I need more statistics? Anecdotes? Descriptions? Where?</a:t>
            </a:r>
            <a:br>
              <a:rPr sz="2000"/>
            </a:b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ow is my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organization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? Do I need to rearrange information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ork in your table group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ad aloud (or read silently) one another</a:t>
            </a:r>
            <a:r>
              <a:rPr b="0" lang="ja-JP" sz="2200" spc="-1" strike="noStrike">
                <a:solidFill>
                  <a:srgbClr val="2f2b2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 drafts. Provide each other with feedback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pend 7-9 minutes per person</a:t>
            </a:r>
            <a:r>
              <a:rPr b="0" lang="ja-JP" sz="2200" spc="-1" strike="noStrike">
                <a:solidFill>
                  <a:srgbClr val="ff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 draf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ooking closely at word choice…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veryone would agree that this issue is pertinen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issue is indisputably one of the most pressing concerns teachers fac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s data reveals the worst test scores in over a decad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re has never been a more important time to focus on this issue than now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eachers are completely overwhelmed with the sheer number of failing studen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5225"/>
                </a:solidFill>
                <a:latin typeface="Calibri"/>
              </a:rPr>
              <a:t>What do you notice about these statements? What do they have in common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5a39d"/>
                </a:solidFill>
                <a:latin typeface="Calibri"/>
              </a:rPr>
              <a:t>What words stand out to you as “clues” revealing the author’s feelings or biase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571680" indent="-4572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20:11:17Z</dcterms:created>
  <dc:creator>Erinn</dc:creator>
  <dc:description/>
  <dc:language>en-US</dc:language>
  <cp:lastModifiedBy>csu</cp:lastModifiedBy>
  <dcterms:modified xsi:type="dcterms:W3CDTF">2016-05-24T23:21:33Z</dcterms:modified>
  <cp:revision>23</cp:revision>
  <dc:subject/>
  <dc:title>Slide 1</dc:title>
</cp:coreProperties>
</file>